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-2-D110-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1B91-4CBD-4E02-BFBF-3FB739DF3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3201-4CAF-4971-867E-882D16826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2-2-D110-E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D0BD-2E55-448B-876C-28BFAB5B6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2-2-D110-E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0AAC-AAD9-4B76-A56D-316622370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2-2-D110-E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45DD-D5DD-4684-961C-8953416E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74E4-4D10-4808-AB7D-5B1E6D8C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7C0A-83C0-468C-8D63-487918982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50F6-F439-411C-B328-6814E624E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0559-12A9-41BC-920E-B605B8BF5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1833-F89E-4F2A-99A3-372682ED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796C-2A52-4A19-A7C6-9B438779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6065-6E67-422A-A638-449DEDE9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BED4-83B3-45D1-B237-2BB81D7A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6574-B26E-44A3-A69B-B95072EB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0800-68FE-4341-8D2F-CF8CCA6C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1539-7294-4194-9390-0E5127F5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D580-AA7B-4249-B536-A0FA2C45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9940-7AD5-4952-8437-05E81AF7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101D-E511-48DC-A3BA-5F2B82DD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8950-D9BF-4067-8C38-F8370063D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5B5A-396D-4D66-B89A-0DB55397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38939-A2A4-482D-BBD7-FD244FD1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25136-5EA3-42BF-A341-1FD2E254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7A42F-5DEA-4C75-A7A2-A8682261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6B58C-2E65-4937-84EA-F02D96C8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01D89-7026-47E1-939A-84CFBCFD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9B28-B34C-4110-BA2E-3B0DE1DA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F778A-1D08-4354-872C-7C4D043C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82C99-0D2C-4C9E-957C-533A83A9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64712-B81A-4CB6-865D-79CE6580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19DE3-8B11-411E-B5B2-9D1EE7C5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32515-8B7E-4C22-AEF1-D008746E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A7F59-99BE-41A8-9BE7-DC3D83C69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14E2C-5557-4DAD-83FE-C36DE17E7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DCF22-ECB9-425F-BF22-7F534EA92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BD4FC-0645-49E9-A6DD-8834A34E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5AEE4-A5A8-446F-A6E7-053F3C62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A936-A6BB-43BB-8639-452CD5C4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0F695-51D7-49CF-A791-B3D27C0A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218A4-C2B4-404E-965D-901C1F15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45442-5D09-47C9-86A2-C92AE0DD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E6FB2-F0FE-438C-A7F1-55808E92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E442D-FED8-4252-8568-097A88FA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97580-B215-46A0-99DC-3FDF44F2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CA59B-DF70-4C6F-934F-0D12349C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C9317-BE89-413F-9AAD-DA124322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00020-5E27-4AC8-B6EA-CB3F475E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8C7D-93BE-4878-B188-9B33CF3B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A5F2-002E-4BDF-BE48-69E0D9B9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4E84-190A-4D42-B9C4-463774CF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361B-3069-4C17-8BC9-F755C625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6F49-CB7E-4BDB-A0B9-32F02623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95CF-9FCE-41B9-889D-77FEFBA6C79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2-01-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8922-3CF8-453A-9BEE-01E4B5F89F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bar"/>
          <p:cNvPicPr/>
          <p:nvPr/>
        </p:nvPicPr>
        <p:blipFill>
          <a:blip r:embed="rId2"/>
          <a:stretch/>
        </p:blipFill>
        <p:spPr>
          <a:xfrm>
            <a:off x="-9360" y="6486480"/>
            <a:ext cx="916272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Text Box 10"/>
          <p:cNvSpPr/>
          <p:nvPr/>
        </p:nvSpPr>
        <p:spPr>
          <a:xfrm>
            <a:off x="6700680" y="65548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1-</a:t>
            </a:r>
            <a:fld id="{C2100EFC-E64D-45B5-9FD8-B36DD1D3ADA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D110-E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42F5-FB2A-479B-BCC5-8A2EE0EA5D9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2-01-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5AC9-1F24-4DEA-A501-555EC8D66D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bar"/>
          <p:cNvPicPr/>
          <p:nvPr/>
        </p:nvPicPr>
        <p:blipFill>
          <a:blip r:embed="rId2"/>
          <a:stretch/>
        </p:blipFill>
        <p:spPr>
          <a:xfrm>
            <a:off x="-9360" y="6486480"/>
            <a:ext cx="9162720" cy="3715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6700680" y="65548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1-</a:t>
            </a:r>
            <a:fld id="{0C3D8C05-C725-46A5-98AF-FFEC15C578C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D110-E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1" descr="bar"/>
          <p:cNvPicPr/>
          <p:nvPr/>
        </p:nvPicPr>
        <p:blipFill>
          <a:blip r:embed="rId2"/>
          <a:stretch/>
        </p:blipFill>
        <p:spPr>
          <a:xfrm>
            <a:off x="-9360" y="6486480"/>
            <a:ext cx="9162720" cy="3715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6700680" y="65548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1-</a:t>
            </a:r>
            <a:fld id="{BBD86C0F-6AD4-4449-8612-9214CCB5E6F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D110-E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bar"/>
          <p:cNvPicPr/>
          <p:nvPr/>
        </p:nvPicPr>
        <p:blipFill>
          <a:blip r:embed="rId3"/>
          <a:stretch/>
        </p:blipFill>
        <p:spPr>
          <a:xfrm>
            <a:off x="-9360" y="6486480"/>
            <a:ext cx="9162720" cy="3715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0340-E697-4922-BE99-47A3B7D15AE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2-01-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49C1-0390-4114-A5F2-A6BB21591F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1" descr="bar"/>
          <p:cNvPicPr/>
          <p:nvPr/>
        </p:nvPicPr>
        <p:blipFill>
          <a:blip r:embed="rId2"/>
          <a:stretch/>
        </p:blipFill>
        <p:spPr>
          <a:xfrm>
            <a:off x="-9360" y="6486480"/>
            <a:ext cx="9162720" cy="3715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6700680" y="65548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1-</a:t>
            </a:r>
            <a:fld id="{8FC84BAE-B8AF-44EC-9B7C-796D4B938A4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D110-E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bar"/>
          <p:cNvPicPr/>
          <p:nvPr/>
        </p:nvPicPr>
        <p:blipFill>
          <a:blip r:embed="rId3"/>
          <a:stretch/>
        </p:blipFill>
        <p:spPr>
          <a:xfrm>
            <a:off x="-9360" y="6486480"/>
            <a:ext cx="9162720" cy="3715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A87A-F39F-4DB5-9D62-8427FFCB82C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2-01-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122B-8631-4F7D-9BB7-5AA0B6025E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" descr=""/>
          <p:cNvPicPr/>
          <p:nvPr/>
        </p:nvPicPr>
        <p:blipFill>
          <a:blip r:embed="rId2"/>
          <a:stretch/>
        </p:blipFill>
        <p:spPr>
          <a:xfrm>
            <a:off x="436680" y="222120"/>
            <a:ext cx="8331120" cy="62485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938520" y="1835280"/>
            <a:ext cx="206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it 1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436680" y="222120"/>
            <a:ext cx="7988040" cy="199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99ff"/>
                </a:solidFill>
                <a:latin typeface="Arial Black"/>
              </a:rPr>
              <a:t>After Action Review /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99ff"/>
                </a:solidFill>
                <a:latin typeface="Arial Black"/>
              </a:rPr>
              <a:t>Close Ou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64960" y="6499080"/>
            <a:ext cx="705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-110 Unit 1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Action Review/Close O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7"/>
          <p:cNvSpPr/>
          <p:nvPr/>
        </p:nvSpPr>
        <p:spPr>
          <a:xfrm>
            <a:off x="700200" y="2593800"/>
            <a:ext cx="746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cipate in an After Action Review (AA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436680" y="417600"/>
            <a:ext cx="7988040" cy="14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d93f1"/>
                </a:solidFill>
                <a:latin typeface="Verdana"/>
              </a:rPr>
              <a:t>Objectiv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64960" y="6499080"/>
            <a:ext cx="705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-110 Unit 1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Action Review/Close O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"/>
          <p:cNvSpPr/>
          <p:nvPr/>
        </p:nvSpPr>
        <p:spPr>
          <a:xfrm>
            <a:off x="7835760" y="6541920"/>
            <a:ext cx="117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1-1-D110-E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7"/>
          <p:cNvSpPr/>
          <p:nvPr/>
        </p:nvSpPr>
        <p:spPr>
          <a:xfrm>
            <a:off x="698400" y="1335240"/>
            <a:ext cx="7888320" cy="55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scribe the purpose and structure of Expanded Dispatc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scribe the roles and responsibilities of the Expanded Dispatch Recorder (EDRC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monstrate how to mobilize and demobilize incident resources, using established dispatch ordering channels, through resource order forms and electronic resource tracking system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scribe how to communicate effectively and foster positive interpersonal working relationship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436680" y="249120"/>
            <a:ext cx="7988040" cy="95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d93f1"/>
                </a:solidFill>
                <a:latin typeface="Verdana"/>
              </a:rPr>
              <a:t>Course Objectiv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64960" y="6499080"/>
            <a:ext cx="705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-110 Unit 1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Action Review/Close O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"/>
          <p:cNvSpPr/>
          <p:nvPr/>
        </p:nvSpPr>
        <p:spPr>
          <a:xfrm>
            <a:off x="7835760" y="6541920"/>
            <a:ext cx="117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1-2-D110-E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21:12:19Z</dcterms:created>
  <dc:creator>isather</dc:creator>
  <dc:description/>
  <dc:language>en-US</dc:language>
  <cp:lastModifiedBy>Sunderland, Amber</cp:lastModifiedBy>
  <dcterms:modified xsi:type="dcterms:W3CDTF">2021-04-28T23:32:46Z</dcterms:modified>
  <cp:revision>140</cp:revision>
  <dc:subject/>
  <dc:title>Unit 1: Expanded Dispatch Organization</dc:title>
</cp:coreProperties>
</file>